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DD26-BAD3-48F8-BC74-518FB2B0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119-5DF9-4472-9433-5AFEE406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A52-6DA4-44F8-B023-5CF07E49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5491-6F90-4C9A-A5BA-3147F5D8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67B-D6EB-4B28-9663-E1697AE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4EF-7946-42D8-AF8A-1A58962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5A1-43AE-4A59-9B87-66E5CE90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B79-7C1D-4CAE-A829-3D9C62AB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223-95F2-4CEB-92FB-C11D957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4F9-8ED5-4A8D-B50B-B8BFF87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292-A127-42E3-83C6-9574F22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02A-A9B2-4013-9DA2-E54E285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BAB-02E4-4197-82EF-D1B8FC7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CA5-B368-40C3-93A3-46DD2FD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262-9460-49DB-AF36-EB8FF71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0D8-B736-407B-8FB5-010CEABA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4E41-A145-4089-A384-7D8D352F8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xic Popcor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n of highly toxic radioactive popcorn has contaminated a circle of approximately 4 feet in diameter.  The toxic area extends to the ceiling.  If the toxic popcorn is not transferred to a safe container for decontamination, then it will contaminate Limerick and the surrounding area.  The popcorn is estimated to have a safe life of exactly 20 minutes before a disaster occurs.  It’s up to you to save the day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ide the circle you will find two cans.  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nsafe container) is half full of the highly toxi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active popcorn.  The other (safe) container 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ailable for decontaminat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d a way to safely transfer the toxic popcorn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safe container to the safe container, u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the materials provide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304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may cross the plane of the circle with any part of the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ropes &amp; tire tube may cross the plane of the circ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pills are allowed, or the popcorn will expl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use only the materials provi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corn must be transferred with in 20 minutes or there will be a disaster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1:27:10Z</dcterms:created>
  <dc:creator> </dc:creator>
  <dc:description/>
  <dc:language>en-US</dc:language>
  <cp:lastModifiedBy> </cp:lastModifiedBy>
  <dcterms:modified xsi:type="dcterms:W3CDTF">2010-08-05T10:37:52Z</dcterms:modified>
  <cp:revision>42</cp:revision>
  <dc:subject/>
  <dc:title>Toxic Popcorn </dc:title>
</cp:coreProperties>
</file>